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0EB-D6E6-4988-AC22-BD7843F5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AC3-73C3-4379-8978-74C3AACD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BAB-2813-45C5-9BA9-B5EE199C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82B4-DF7E-4CA5-91E1-2918DEE1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7A09-7669-4055-9720-BBDA06CB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2CD-2D3B-4213-AF49-E17CE6DC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4D6-4457-4619-94D7-6B3B6069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609-3291-4A4A-840E-5BF27325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769-2535-4070-B49F-21EFE91D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4FA2-13C4-450A-9127-F78C7AF4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21C-FD76-4F87-8F23-141D1E3F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68E-409B-41D9-926F-175A3A88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9F30-F815-45B4-A4AE-E024EF8AF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be0e3"/>
                </a:solidFill>
                <a:latin typeface="Bradley Hand ITC"/>
              </a:rPr>
              <a:t>La mansió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2952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Por: Emilia Fonse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66"/>
                </a:solidFill>
                <a:latin typeface="Curlz MT"/>
              </a:rPr>
              <a:t>El 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Bradley Hand ITC"/>
              </a:rPr>
              <a:t>Es mi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520" y="55623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Bradley Hand ITC"/>
              </a:rPr>
              <a:t>Es muy grande y mod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4099"/>
                </a:solidFill>
                <a:latin typeface="Bradley Hand ITC"/>
              </a:rPr>
              <a:t>Es mi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990720"/>
            <a:ext cx="464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601992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1cb6"/>
                </a:solidFill>
                <a:latin typeface="Bradley Hand ITC"/>
              </a:rPr>
              <a:t>Es fabuloso y be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Bradley Hand ITC"/>
              </a:rPr>
              <a:t>Es mi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5867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b436"/>
                </a:solidFill>
                <a:latin typeface="Bradley Hand ITC"/>
              </a:rPr>
              <a:t>Es</a:t>
            </a:r>
            <a:r>
              <a:rPr b="1" lang="en-US" sz="1800" spc="-1" strike="noStrike">
                <a:solidFill>
                  <a:srgbClr val="e6b436"/>
                </a:solidFill>
                <a:latin typeface="Bradley Hand ITC"/>
              </a:rPr>
              <a:t> </a:t>
            </a:r>
            <a:r>
              <a:rPr b="1" lang="en-US" sz="3600" spc="-1" strike="noStrike">
                <a:solidFill>
                  <a:srgbClr val="e6b436"/>
                </a:solidFill>
                <a:latin typeface="Bradley Hand ITC"/>
              </a:rPr>
              <a:t>neuva y luj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Bradley Hand ITC"/>
              </a:rPr>
              <a:t>Es un ba</a:t>
            </a:r>
            <a:r>
              <a:rPr b="1" lang="en-US" sz="4400" spc="-1" strike="noStrike">
                <a:solidFill>
                  <a:srgbClr val="0000ff"/>
                </a:solidFill>
                <a:latin typeface="Bradley Hand ITC"/>
                <a:ea typeface="Arial"/>
              </a:rPr>
              <a:t>ñ</a:t>
            </a:r>
            <a:r>
              <a:rPr b="1" lang="en-US" sz="4400" spc="-1" strike="noStrike">
                <a:solidFill>
                  <a:srgbClr val="0000ff"/>
                </a:solidFill>
                <a:latin typeface="Bradley Hand ITC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60958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Bradley Hand ITC"/>
              </a:rPr>
              <a:t>Es grande y impresion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Bradley Hand ITC"/>
              </a:rPr>
              <a:t>Es un cua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Bradley Hand ITC"/>
              </a:rPr>
              <a:t>Es bonito a luj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Bradley Hand ITC"/>
              </a:rPr>
              <a:t>El p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409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Bradley Hand ITC"/>
              </a:rPr>
              <a:t>Es moderno y estup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Bradley Hand ITC"/>
              </a:rPr>
              <a:t>Es mi jar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409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Arial"/>
              </a:rPr>
              <a:t>Es  bello y mod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Bradley Hand ITC"/>
              </a:rPr>
              <a:t>Es mi gar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4860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Bradley Hand ITC"/>
              </a:rPr>
              <a:t>Es nuevo y b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28:02Z</dcterms:created>
  <dc:creator>fonsecaemi</dc:creator>
  <dc:description/>
  <dc:language>en-US</dc:language>
  <cp:lastModifiedBy>fonsecaemi</cp:lastModifiedBy>
  <dcterms:modified xsi:type="dcterms:W3CDTF">2013-04-04T15:53:37Z</dcterms:modified>
  <cp:revision>4</cp:revision>
  <dc:subject/>
  <dc:title>La mansión</dc:title>
</cp:coreProperties>
</file>